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BF15-3ECD-43F9-AC46-4F11F99A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BD68-0429-4034-89E2-BD02381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184-2DDD-4643-9033-A285A357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406E-7AE2-4028-A4AC-335B7A39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2F5-E644-4E9F-9269-CB690E2C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E89-79C0-4C1C-994F-8F846FBA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7A6-C007-4683-8443-5F0EADC4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C82-EB7D-4A11-BC82-528A04C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BDB-C25F-4E5E-95E1-407143DE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08B-A2BE-454E-AB38-66777FE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28CD-3FB7-4E18-8AAC-9CC95EE7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756-A1FC-4EC4-BEFF-763D13A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22B9-7E3F-4E15-9EA4-3D7A612371B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3886200"/>
            <a:ext cx="7561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——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nPack Administrat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Zhou Jingyu, Liu Xi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.09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ern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Mini Framework with Wizards Management and Registration Mechan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apsulation to Open Tools API and IDE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Enabled/Disabled for Separate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fied Base Classes and Debugging Output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ynamic Switching Support of Multi-Language U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out 100 thousand Lines of Source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Team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Responsibilit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ct Administrator, CVS Insp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er, Tester, Document Wri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unication Administrator: Mailing List, BBS, QQ Gro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Leve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nistrator: Project Manager and Team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P Member: Main Develop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mon Member: Code Donator, Document Writer and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Project Management Too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velopment Platform: Redsa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irrors: Cosoft, SourceFor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Version Control: C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ask Management and Bug-Track Tool: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based CVSTr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ightly-Build: w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cket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VSTrac Timeline (Chinese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56144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’s Fu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: CnPack IDE Wizard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mprove Pascal Script, Provide More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Support to C++Build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ew Features and Bug-Fi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Plan for .NET or Java IDE (Eclipse) Plug-in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ommunity Building: CnPack Community for Communications of Users and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Buil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Dem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Version: CnWizards 0.8.2 R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scal Scrip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stomization Build (DI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Environment.: Borland Delphi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mo Content: Code Input Helper,  Designer/Editor Toolbar, Unit/Form List, Multi-Language,  Wizards Settings, Pascal Script, Source Statistics, Customization Bu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http://www.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ster@cnpack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Te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Team was Established in 2001 from Delphibbs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Objective: Develop the Tools, Packages and Plug-in Set based on Delphi/C++Buil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Members: Now About 24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roducts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,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nPack Component Package, CVSTrac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itiator : Zhou Jingy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dministrator: Zhou Jingyu, Liu Xia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at is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a Free, Open-Source Plug-in Tools Set Used in Delphi / C++ Builder / BDS to Improve our Development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First version of CnPack IDE Wizards is Published in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About CnPack IDE Wizar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Who can Use CnPack IDE Wizard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is Designed to Face the Programmers who Use Delphi 5 6 7 8 2007, C++Builder 5 6 or BDS 2005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fficial Version of CnPack IDE Wizards Includes 3 Languages: Simplified Chinese, Traditional Chinese and Engl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Introdu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urrent Version of CnPack IDE Wizards: 0.8.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ou Jingyu,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the Initiator, Administrator, Main Designer and Author of CnPack IDE Wizards is Elected as an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Borland Expert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sers Cover Home and Aboard. CnPack IDE Users are More than 4300 by Upgrade-checking Statist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Us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705636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ackground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Delphi/C++Builder are Famous RAD Development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orland Provides Open Tools API in IDE as an Open Plug-in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re’re Similar Foreign Tools, such as GExperts, CodeRush, Castalia, ModelMak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Free Wizards with Chinese UI/Sty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o, We Develop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nPack IDE Wiz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CnPack IDE Wizards Lice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t’s “CnPack IDE Wizards Licens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erived from the Official Open Source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Commercial Usage of CnPack IDE Wizards Source Code without CnPack Team's Formal Author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is License should be Attach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O Express or Implied Warran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ccept NO Liability for any Resu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haracteristic of CnPack IDE Wizard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UI Languages for Users at Home and Ab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nd Creative. Some Features, such as Input Helper, are Origin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hinese-Style Features Make up of Similar Foreign Products for Chinese Us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Components, Libraries and Debugging Tools are Attached for Develo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e, Open Source. Open Architecture for Customization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2:57:51Z</dcterms:created>
  <dc:creator>Liu Xiao</dc:creator>
  <dc:description>2001－2007 CnPack Team</dc:description>
  <dc:language>en-US</dc:language>
  <cp:lastModifiedBy>Passion</cp:lastModifiedBy>
  <dcterms:modified xsi:type="dcterms:W3CDTF">2007-07-11T12:53:42Z</dcterms:modified>
  <cp:revision>43</cp:revision>
  <dc:subject/>
  <dc:title>CnPack IDE Wizards Presentation</dc:title>
</cp:coreProperties>
</file>